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E3C-C849-4CAE-AC78-A9EAC143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D5B-8390-4539-A141-B3043A9D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734C-3FEE-43F8-9F3B-4D94D0FA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3A5-B19F-4D1B-936F-92DFB49A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07AB-504C-4639-871B-048A8602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FF09-828E-40D2-8630-081BAF1F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026-574A-41E7-A0C8-0ECC2F03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1C02-5252-44E2-AADC-DC3F0F8D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143-6343-4C32-A4B8-FAB39D72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5E9-D851-4C05-94C7-05CA5AE9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F7B8-F7CC-4130-8E1B-59290989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508-91FF-4114-92BC-4A621E5D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1A43-2075-40EE-96E4-C5E38F36A8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666880" y="419076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Bookman Old Style"/>
              </a:rPr>
              <a:t>English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Bookman Old Style"/>
              </a:rPr>
              <a:t>Mrs. Cou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8000"/>
                </a:solidFill>
                <a:latin typeface="Bookman Old Style"/>
              </a:rPr>
              <a:t>(based on a presentation by Ms. Barrow, English 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219320" y="2057400"/>
            <a:ext cx="670536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ff99cc"/>
                </a:solidFill>
                <a:latin typeface="Bookman Old Style"/>
              </a:rPr>
              <a:t>Elements of Poetry</a:t>
            </a:r>
            <a:endParaRPr b="1" i="1" lang="en-US" sz="1800" spc="1" strike="noStrike">
              <a:ln w="12600">
                <a:solidFill>
                  <a:srgbClr val="339966"/>
                </a:solidFill>
                <a:miter/>
              </a:ln>
              <a:solidFill>
                <a:srgbClr val="ff99cc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Graphic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295280" y="1295280"/>
            <a:ext cx="701064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Poets use graphic elements to help readers to understand the poem and to strengthen the sound or visual appeal of the po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Punctuation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marks, such as commas, show the reader where to slow down or p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Line length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can help determine whether a poem has a flowing sound or a short, choppy sound</a:t>
            </a: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219320" y="838080"/>
            <a:ext cx="693396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Word position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can show relationships between words and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Capital letters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  <a:ea typeface="Times New Roman"/>
              </a:rPr>
              <a:t>Capitalizing the first word in a line is one of the traditional tools of poetry writing, and using or not using it is a decision that a poet should make after some consideration.  But whatever the decision, the practice today is clearly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Types of 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914400" y="1371600"/>
            <a:ext cx="762012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There are three main types of po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Narrative poetry</a:t>
            </a: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tells a story with a plot, characters, and a set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905120" y="3352680"/>
            <a:ext cx="640080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Epic</a:t>
            </a: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is a long narrative poem about the feats of gods or her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Ballad</a:t>
            </a: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is a songlike narrative with stanzas and a ref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295280" y="1219320"/>
            <a:ext cx="685800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2.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Dramatic poetry</a:t>
            </a: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tells a story using a character’s own thoughts or spoken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3.</a:t>
            </a: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Lyric poems</a:t>
            </a: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express the feelings of a singl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Lyrics are the most common type of poem in modern lit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Poetic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676520" y="1676520"/>
            <a:ext cx="62481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Poems can also be categorized by structure, or form. Poetic structures are defined by patterns of line and stanza length, rhythm, and rhyme. Some exampl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Haiku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is a verse form with three unrhymed lines of five, seven, and five syl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Free verse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poems have neither a set pattern of rhythm or rh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447920" y="914400"/>
            <a:ext cx="662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447920" y="1066680"/>
            <a:ext cx="66294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Bio Poem and I Am Poem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 are poem types which tell about the life of an individual, following a very specific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Acrostic Poem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 tells about the word. It uses the letters of the word for the first letter of each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Imagery Poems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 draw the reader into poetic experiences by touching on the images and senses which the reader already kn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981080" y="99072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Analyzing 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676520" y="2133720"/>
            <a:ext cx="6400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man Old Style"/>
              </a:rPr>
              <a:t>Analysis 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means literally picking a poem apart - looking at elements such as imagery,symbolism, allusion, metaphor, poetic language, rhyme scheme, and so on - in order to see how they all work together to produce the poem's meaning.  </a:t>
            </a:r>
            <a:r>
              <a:rPr b="1" i="1" lang="en-US" sz="2400" spc="-1" strike="noStrike">
                <a:solidFill>
                  <a:srgbClr val="ff0000"/>
                </a:solidFill>
                <a:latin typeface="Bookman Old Style"/>
              </a:rPr>
              <a:t>Annotating 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is a great way to begin analyzing a po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066680" y="5335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Annotating a P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143000" y="1289160"/>
            <a:ext cx="7467480" cy="46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Annotation is the act of adding notes.</a:t>
            </a: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STEP UP: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S:</a:t>
            </a: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 Subject Matter – What is the poem about? Look at the ti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T:</a:t>
            </a: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 Theme – What is the message of the po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: </a:t>
            </a: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Emotions – Tone? M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P:</a:t>
            </a: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 Poetic Devices – Look for figurative language and sound devices.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U:</a:t>
            </a: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 Your response – What do you thin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P:</a:t>
            </a: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 Positioning – look at the graphic elements in the po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Paragraphs about 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Literary paragraphs can be written about poems, just as they can about short stories or a novel. All the rules are the sa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Literary opening (author, title, gen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Answer the question in one sentence = thesi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Present tense, no contractions, 3</a:t>
            </a:r>
            <a:r>
              <a:rPr b="1" i="1" lang="en-US" sz="2000" spc="-1" strike="noStrike" baseline="30000">
                <a:solidFill>
                  <a:srgbClr val="008000"/>
                </a:solidFill>
                <a:latin typeface="Bookman Old Style"/>
              </a:rPr>
              <a:t>rd</a:t>
            </a: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 person, PEE 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Quote integration, but use line number instead of page number, like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Bookman Old Style"/>
              </a:rPr>
              <a:t>When Carroll says the Jabberwock has “eyes of flame” (line 14) and “claws that catch” (line 5), he is implying that it is a dangerous bea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If your quotation goes over two lines, show the end of a line with a slash (/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Bookman Old Style"/>
              </a:rPr>
              <a:t>Hughes writes, “What happens to a dream deferred?/Does it dry up/Like a raisin in the sun?” (lines 1-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>
            <a:off x="1447920" y="2209680"/>
            <a:ext cx="6400800" cy="199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ff99cc"/>
                </a:solidFill>
                <a:latin typeface="Bookman Old Style"/>
              </a:rPr>
              <a:t>The End</a:t>
            </a:r>
            <a:endParaRPr b="1" i="1" lang="en-US" sz="5400" spc="1" strike="noStrike">
              <a:ln w="12600">
                <a:solidFill>
                  <a:srgbClr val="99cc00"/>
                </a:solidFill>
                <a:miter/>
              </a:ln>
              <a:solidFill>
                <a:srgbClr val="ff99cc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Poetry Def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676520" y="1828800"/>
            <a:ext cx="61722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  <a:ea typeface="Times New Roman"/>
              </a:rPr>
              <a:t>Poetry is literature in verse form, a controlled arrangement of lines and stanzas. Poems use concise, musical, and emotionally charged language to express multiple layers of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  <a:ea typeface="Times New Roman"/>
              </a:rPr>
              <a:t>The word poetry is derived from the Greek poiesis, meaning a “making” or “creating.” It is a form of art in which language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286000" y="15238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295280" y="114300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Figurative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676520" y="2590920"/>
            <a:ext cx="617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Bookman Old Style"/>
                <a:ea typeface="Times New Roman"/>
              </a:rPr>
              <a:t>Language that is used imaginatively, rather than literally, to express ideas or feelings in new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990720" y="152388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523880" y="6858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Figures of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066680" y="1600200"/>
            <a:ext cx="73152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Similes: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  <a:ea typeface="Times New Roman"/>
              </a:rPr>
              <a:t>compares one thing to another and uses the words “like” or “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Metaphors: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  <a:ea typeface="Times New Roman"/>
              </a:rPr>
              <a:t>an implied comparison made between two unlike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Personification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: 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  <a:ea typeface="Times New Roman"/>
              </a:rPr>
              <a:t>giving human traits (qualities, feelings, action, or characteristics) to non-human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371600" y="1371600"/>
            <a:ext cx="6858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Allusion: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an allusion is the casual reference to a figure or event in history or literature that creates a mental image in the mind of the rea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Symbolism: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the use of one object (a 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symbol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) to represent or suggest some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1523880" y="762120"/>
            <a:ext cx="65534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Imagery: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  Descriptive language that creates vivid impressions. These impressions, or images, are developed through sensory language, which provides details related to sight, sound, taste, touch, smell, and m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Theme: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the message of the p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Tone: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the manner in which a poet makes his statement; it reflects his attitude toward his subject. The reader must learn to "hear" their tones with his mind's ear.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56386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Sound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447920" y="1295280"/>
            <a:ext cx="7086600" cy="39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Rhythm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the pattern created by stressed and unstressed syllables of words in sequence. A pattern of rhythm is call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Rhyme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is the repetition of identical sounds in the last syllables of words. A pattern of rhyme at the ends of lines is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rhym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Alliteration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or initial rhyme, is the repetition of the initial consonant sounds of words, as in </a:t>
            </a:r>
            <a:r>
              <a:rPr b="1" i="1" lang="en-US" sz="2400" spc="-1" strike="noStrike" u="sng">
                <a:solidFill>
                  <a:srgbClr val="008000"/>
                </a:solidFill>
                <a:uFillTx/>
                <a:latin typeface="Bookman Old Style"/>
              </a:rPr>
              <a:t>light 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and </a:t>
            </a:r>
            <a:r>
              <a:rPr b="1" i="1" lang="en-US" sz="2400" spc="-1" strike="noStrike" u="sng">
                <a:solidFill>
                  <a:srgbClr val="008000"/>
                </a:solidFill>
                <a:uFillTx/>
                <a:latin typeface="Bookman Old Style"/>
              </a:rPr>
              <a:t>lem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295280" y="1219320"/>
            <a:ext cx="69343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Assonance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or vowel rhyme, is the repetition of 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vowel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 sounds in nearby words, as in the words d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te and f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Consonance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the repetition of 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consonants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with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in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 nearby words in which the preceding vowels differ, as in the words 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mi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Bookman Old Style"/>
              </a:rPr>
              <a:t>lk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and 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w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Bookman Old Style"/>
              </a:rPr>
              <a:t>lk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5335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Pros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219320" y="1447920"/>
            <a:ext cx="701028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the science or study of poetic meters and versifi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a particular or distinctive system of metrics and ver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a poem’s “sound meaning,” its particular “flo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Part of the flavor of the poetry is conveyed by the tempo of the words.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8:32:39Z</dcterms:created>
  <dc:creator>Elena</dc:creator>
  <dc:description/>
  <dc:language>en-US</dc:language>
  <cp:lastModifiedBy>Elizabeth Cousar</cp:lastModifiedBy>
  <dcterms:modified xsi:type="dcterms:W3CDTF">2015-06-03T18:44:08Z</dcterms:modified>
  <cp:revision>46</cp:revision>
  <dc:subject/>
  <dc:title>Elements of Poetry</dc:title>
</cp:coreProperties>
</file>